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45275" cy="9172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B256-F0A7-4093-8704-19E502341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7ECB-3CD2-4A3D-B0AB-6379F8A5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E891-345B-4986-ACFB-C9DAE464F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C802-166B-40F1-B652-4638203CE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FE0A-66B2-41E5-A8C6-48C3B9665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62FF-DE89-4407-B9A2-E9D0BD92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572A-E5A5-406B-AB5F-9AD2435F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E07C-708D-4DA5-8500-2382E08F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F764-2DE1-47B8-86C8-3CD50A60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92C4-AD11-4FF0-8F84-864D5F9A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BF83-D530-48D5-927D-64FD8B49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02BE-CC61-465F-B0D5-8843C904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49B7-6367-4230-A2F3-7F529F29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7219-B747-4A7E-8E66-6633B10D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13E7-8869-4532-874E-91C83F03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2942-D616-48F4-BB23-341B22D2F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CD68-5296-443E-B4BC-AEEB61988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9C93-DD4F-49CA-9EF7-3AD77713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F397-FBCA-4612-96D5-F01093C2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B3AF-5D03-4596-B220-7A7E6CDD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90B3-4CCA-40C1-8292-B6738E97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0BC3-213D-43D2-8750-5E9D66AF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738C-9C95-4095-A795-5E1D6635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7313-5632-4C87-B04A-294C5D8E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8AA4-87E1-4D3B-AFBB-509E1C445C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D234-A44E-4207-BB2A-FF1B9B17D0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81080"/>
            <a:ext cx="80773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Tahoma"/>
              </a:rPr>
              <a:t>Cellular Transport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32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movement of molecules across a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selectively permeabl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membra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ndocytosis and Exocytosi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These 2 processes involve the cell membrane </a:t>
            </a:r>
            <a:r>
              <a:rPr b="0" lang="en-US" sz="3400" spc="-1" strike="noStrike" u="sng">
                <a:solidFill>
                  <a:srgbClr val="ffffff"/>
                </a:solidFill>
                <a:uFillTx/>
                <a:latin typeface="Tahoma"/>
              </a:rPr>
              <a:t>changing shape</a:t>
            </a: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 to either: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Take i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large amounts of molecules such as in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Endocytosi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Releas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large amounts of molecules such as in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Exocytosi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ndocytosi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5" descr="endocytosis"/>
          <p:cNvPicPr/>
          <p:nvPr/>
        </p:nvPicPr>
        <p:blipFill>
          <a:blip r:embed="rId1"/>
          <a:stretch/>
        </p:blipFill>
        <p:spPr>
          <a:xfrm>
            <a:off x="1905120" y="1676520"/>
            <a:ext cx="533376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xocytosi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5" descr="exocytosis5"/>
          <p:cNvPicPr/>
          <p:nvPr/>
        </p:nvPicPr>
        <p:blipFill>
          <a:blip r:embed="rId1"/>
          <a:stretch/>
        </p:blipFill>
        <p:spPr>
          <a:xfrm>
            <a:off x="1447920" y="1523880"/>
            <a:ext cx="6476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assive Transpor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assive transport uses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diffus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since it allows molecules to naturally move from areas of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higher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concentration to areas of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lower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concentratio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ince diffusion is used energy is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no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require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imple Diffu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en very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small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molecules move directly through the cell membrane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amples: 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Water, Oxygen and Carbon Diox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IMPLE DIFFU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33720" y="2057400"/>
            <a:ext cx="510516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acilitated Diffu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Larger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use a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protein channel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in order to move into the cell by facilitated diffusio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very cell has many different types of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membrane protein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for each type of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molecul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that has to be transported in this wa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ACILITATED DIFFUS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5" descr="GB1-os19"/>
          <p:cNvPicPr/>
          <p:nvPr/>
        </p:nvPicPr>
        <p:blipFill>
          <a:blip r:embed="rId1"/>
          <a:stretch/>
        </p:blipFill>
        <p:spPr>
          <a:xfrm>
            <a:off x="1676520" y="1752480"/>
            <a:ext cx="563868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ctive Transpor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ctive transport occurs when molecules move from areas of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low concentra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to areas of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high concentra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, the opposite of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diffusio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ince this type of transport moves molecules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gains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their normal flow it requires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energy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to occu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ctive Molecular Transpor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en cells push molecules across a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membran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through protein channels against the flow of diffusio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Active%20diffusion"/>
          <p:cNvPicPr/>
          <p:nvPr/>
        </p:nvPicPr>
        <p:blipFill>
          <a:blip r:embed="rId1"/>
          <a:stretch/>
        </p:blipFill>
        <p:spPr>
          <a:xfrm>
            <a:off x="304920" y="380880"/>
            <a:ext cx="5005440" cy="62485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562360" y="685440"/>
            <a:ext cx="33526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P: High concentration of Na       Low concentration of 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TTOM: High concentration of K      Low concentration of 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09:21Z</dcterms:created>
  <dc:creator>AISD</dc:creator>
  <dc:description/>
  <dc:language>en-US</dc:language>
  <cp:lastModifiedBy>AISD</cp:lastModifiedBy>
  <dcterms:modified xsi:type="dcterms:W3CDTF">2010-09-22T20:06:38Z</dcterms:modified>
  <cp:revision>8</cp:revision>
  <dc:subject/>
  <dc:title>Cellular Transport</dc:title>
</cp:coreProperties>
</file>